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028-95F1-4CB6-A849-4F338158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E6D-49E1-4BC6-82D9-62AB98B2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3E4-E1BE-42BD-B3F3-62416614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6F4-9E67-435F-9DAC-CEA93CFC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F404-E504-4801-BF5F-9DC86289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7429-2D2A-4DB6-B2D3-F05699CC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B640-3365-4104-A37D-9B5168F2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4EA8-42DA-406E-BBD5-EB384C28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F383-F9C7-45E1-97E4-54C7C5C1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AA51-D036-432C-AED9-79E90FC0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F664-6037-4AFD-A399-5717C1C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C8E-27E2-4B0C-A715-6722D182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DFC1-6A27-4166-8622-150C8616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85F9-76C8-4AD9-BD29-FF6D284A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23B5-D36F-49A2-AB08-629C872A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854A-23F8-4606-AD70-1536BFB8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BFC0-301A-4274-A67E-20FCB8E4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A48-A2AA-47B1-8BBF-26FF53B9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915-0133-4AD0-A22A-175F649C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7CF-D10A-492E-8667-2D202D90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08D-5502-40CC-B834-8D2FD10A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F4F-E249-4525-89F3-37ED691A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22F-F6C1-4849-B8C4-FE3689B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B66-ABC3-437C-8CFC-72AD2B74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AD84-4D0C-4193-9BC8-DA44B62B7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5636-ED29-4E0C-B7BB-F0EE4F0CC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rnwab01.wav" TargetMode="External"/><Relationship Id="rId2" Type="http://schemas.microsoft.com/office/2007/relationships/media" Target="file:///tmp/home/.config/libreoffice/4/user/gallery/srnwab01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4400" spc="-1" strike="noStrike">
                <a:solidFill>
                  <a:srgbClr val="221304"/>
                </a:solidFill>
                <a:latin typeface="Century Gothic"/>
              </a:rPr>
              <a:t>Pacific Northwest Fores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5086080"/>
            <a:ext cx="59436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yler B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21304"/>
                </a:solidFill>
                <a:latin typeface="Arial"/>
              </a:rPr>
              <a:t>Subject and Grade Lev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s Unit will be used in a  4th grade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495680"/>
            <a:ext cx="7086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is an interdisciplinary Unit on pacific northwest forests that utilizes skills in art, language arts, and social sci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21304"/>
                </a:solidFill>
                <a:latin typeface="Century Gothic"/>
              </a:rPr>
              <a:t>Curriculum Framing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ssential Question: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y should we respect the eart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Uni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makes our forests spe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role do our forests play in our l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162920" y="2454120"/>
            <a:ext cx="15094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21304"/>
                </a:solidFill>
                <a:latin typeface="Century Gothic"/>
              </a:rPr>
              <a:t>Oregon State Standar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4400"/>
                </a:solidFill>
                <a:uFillTx/>
                <a:latin typeface="Century Gothic"/>
              </a:rPr>
              <a:t>4th grade Standards for Art, Language arts, and Social sci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00"/>
                </a:solidFill>
                <a:latin typeface="Century Gothic"/>
              </a:rPr>
              <a:t>Create, present, and perform works of 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00"/>
                </a:solidFill>
                <a:latin typeface="Century Gothic"/>
              </a:rPr>
              <a:t>Find, understand, and use specific information in a variety of texts across the subject areas to perform a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00"/>
                </a:solidFill>
                <a:latin typeface="Century Gothic"/>
              </a:rPr>
              <a:t>Understand economic trade offs and how choices result in both costs and benefits to individuals and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6832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981080"/>
            <a:ext cx="6522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7240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entury Gothic"/>
              </a:rPr>
              <a:t>Learning Ob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239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60020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The students wi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ain an understanding of what a forest is and how it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ppreciate the benefits our forests provide us wit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23:37:16Z</dcterms:created>
  <dc:creator>ICT User</dc:creator>
  <dc:description/>
  <dc:language>en-US</dc:language>
  <cp:lastModifiedBy>Andrea Olsen</cp:lastModifiedBy>
  <dcterms:modified xsi:type="dcterms:W3CDTF">2009-07-29T04:22:49Z</dcterms:modified>
  <cp:revision>63</cp:revision>
  <dc:subject/>
  <dc:title>Computers and My Kindergartners</dc:title>
</cp:coreProperties>
</file>